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03E-318B-4A79-B6BD-645B5425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073-D917-4042-B6D5-C2B42C3C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F95-4C7F-4697-B816-19C975C4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740-1CE2-4280-8346-29BA4BF5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95E0-F00D-431F-B9B9-7481A560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6966-66C9-4A26-9CAB-1EE2A236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C08F-9450-4EF8-8414-F2DBFF8B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A0FD-A4A8-41C6-AEA2-825F51BF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B646-7B83-4A7F-A033-D6CF9868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9234-CC40-4E16-87A0-C550DB59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4C32-ACBF-4EDC-9368-1C5AEAB3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366-D444-41BE-AB77-BA6AC6D9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2314-244A-4ED8-9406-E5D8F6C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E4D9-295D-4C6D-AED7-76A1D50A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62EC-BE56-4CC7-A5A6-6F5D777A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7634-607D-4C8E-844B-15C123E0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5778-4A3F-4E08-965A-28042220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A47-14DD-43A4-8A7D-056FF60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48A-B4DC-4C76-89A4-E991B450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F2A-718A-4A6C-A061-043F6126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426-B8B0-4367-BFD5-05A1D84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588-8AD5-463A-8F21-C31B4806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02B-D9BE-4343-BBF0-0E66499C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85F-990B-4119-AB88-934BF91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E8DD-2C78-4D0F-B74D-FD921CA0A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5022-94B1-410E-834B-294F3C96B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ill There Was No Remedy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(The Divided Kingdom)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31-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20:22 – 21: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The Last Les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ab Defeated a Syrian Att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-Hadad of Syria lost many horses and chari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howed Ahab this to try once more to let him know that “I am the Lor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Syrians Come Aga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20:22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paration: A Prophet Warns Ahab – 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-Hadad’s false assurance of victory-23-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cy: Ahab will win again because Israel’s enemy defames the name of God –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flict: The Arameans lose 127,000 – v.29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clusion: Ben-hadad’s officers beg for mercy from King Ahab; and Ahab will make a treaty in disobedience to God. V.31-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05320" y="1905120"/>
            <a:ext cx="533160" cy="380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520" y="1219320"/>
            <a:ext cx="213336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1143000"/>
            <a:ext cx="23619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yrians are Arame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likely place of battle between Israel and the forces of Ben-ha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Prophet Rebukes Aha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31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20:35-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phet Illustrates Ahab’s Mis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-hadad should not have been sp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s Ahab’s death and the slaughter of Israel, v. 35-4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aboth’s Vineyar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21:1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’s request – v.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both’s refusal – v.3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zebel’s reprisal – v.5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oth is maligned – 5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both is murdered – 11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 is confronted and condemned by Elijah – v.17-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’s contrition – v.25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735120"/>
            <a:ext cx="8915400" cy="578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0" y="4343400"/>
            <a:ext cx="1295280" cy="7621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386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02:02:15Z</dcterms:created>
  <dc:creator>Terry W. Benton</dc:creator>
  <dc:description/>
  <dc:language>en-US</dc:language>
  <cp:lastModifiedBy>Frank D Vines</cp:lastModifiedBy>
  <dcterms:modified xsi:type="dcterms:W3CDTF">2005-07-26T12:31:38Z</dcterms:modified>
  <cp:revision>4</cp:revision>
  <dc:subject/>
  <dc:title>Till There Was No Remedy (The Divided Kingdom)</dc:title>
</cp:coreProperties>
</file>